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12.jpeg" ContentType="image/jpeg"/>
  <Override PartName="/ppt/media/image5.png" ContentType="image/png"/>
  <Override PartName="/ppt/media/image10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3.jpeg" ContentType="image/jpeg"/>
  <Override PartName="/ppt/media/image11.jpeg" ContentType="image/jpeg"/>
  <Override PartName="/ppt/media/image24.png" ContentType="image/png"/>
  <Override PartName="/ppt/media/image2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7747-EE4D-48FC-B935-496BE57D3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16AD-84C7-4A68-803E-D7E55B2FA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5082-8527-4A4E-9C00-AE4E760D5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942C-0A02-419A-BB03-DD66782E0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8943-09E9-4AFE-9263-8AF38F3C3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D7B1-FFE5-4C94-9A4D-1CB9BFBB6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2D9F-7D07-4678-9FF3-D36C1AD3A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DF08-73D4-470F-87ED-6759C7E77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F30B-BC4C-4CB5-812A-D4897061F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, infants will focus on their own body but eventually will include objects around them in their pl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ust of the first year, infant behaviors are mostly spontaneous and unplanned (ex.  putting fingers in mouth, blowing bubbles, co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in year one, infants learn “cause-effect” relationshi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46B8-3CCF-4A8D-8ECE-6F43908FF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A061-903D-4AC0-A353-79831312E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CC9F-90BA-46A2-BA8E-05F02D1C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E987-6248-45BC-B554-1ABB42714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A2CF-85BF-4934-BEBC-455D7303F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1FEC-8732-40AF-A2EC-07D8EF5A5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C54A-FDEA-4350-8E27-3E6D39FD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0A12-11CF-415A-A6EA-44147E04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0B77-7588-42E2-9F35-BA7FECAA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6C0F-D8FD-4E5D-ACE5-18C56FA0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69B2-B2A6-4A68-AF9C-9C16D353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D5AD-598C-4419-BCF1-32903F7F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1537-820A-4400-8442-574C1A69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37B7-0AF7-44EF-B256-78A0E78C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12B6-7671-4E4E-A732-A45033D3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9B9A-13F5-4CE6-8128-2BD2C3ED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86C5-FF61-49B0-BEF1-36F61C0B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CE70-066D-453F-8AB0-0F83578D9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AE2C6-ECB3-455E-961B-00A5E994E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1B43E-DEC5-4AF3-8BE9-62E98481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73E08-7E44-4B46-A646-480CC053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FC424-E955-4A9B-82A0-AA29DE79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EDC7D-2FF1-44AA-8484-AE44B38E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CA22-14CB-4D98-AEC8-DB8082C3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507FC-7C30-4F93-A5C3-68B0BBB2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AB938-D693-46FF-BCDC-9EAA76E7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BE188-8A0A-47F7-BD11-08FD66B6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C8067-67AC-4DAD-85E2-625CF07E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9AD53-453A-4D63-BA98-7A910D6A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DEFA2-1226-4E55-9BC3-502522BA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2FD5C-E8CD-4121-96C7-3860FF2AC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C0F8C-1987-44C2-B757-5E47DAFA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8B5B0-CF3C-44CA-9DF2-83FF5CF7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13CD2-20BF-4265-9149-AD3AB37A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4683-4F07-4349-8CB6-9C5B8529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75D82-B9CD-43C2-B00A-06239566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FE3FD-96E5-4C4E-B7CA-60B5FEC4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DFB92-29EE-4FEC-8C5D-E552330D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24E53-CD0D-44DE-817D-4CF7527F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AD609-2876-4B00-B381-CD8B010C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12B86-70B4-4512-86C1-D91E698D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1D514-E496-40D4-9598-EDC8B009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8BD4D-E2A4-4238-8DEC-43C6D508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B6415-1477-43E8-9FA5-990095F58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3D8D-BAC7-429B-B8A6-15AB90BB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CA83-2488-4779-A9A0-489DA6D1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E7FD-EFCE-42BD-A9FB-F76B27F7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DB51-00B3-4983-AEBF-2928BEB0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669A-4E66-484D-9A4C-877C3C13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f2f2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C020-80E7-497C-BC6E-DEA7E6D66BD4}" type="slidenum">
              <a:rPr b="0" lang="en-US" sz="1200" spc="-1" strike="noStrike">
                <a:solidFill>
                  <a:srgbClr val="2f2f2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3de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9d4c7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24DD-D87C-4675-B891-C3106E5B4CD9}" type="slidenum">
              <a:rPr b="0" lang="en-US" sz="1200" spc="-1" strike="noStrike">
                <a:solidFill>
                  <a:srgbClr val="d9d4c7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3de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9d4c7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EC12-E8BD-43D1-8759-32148BEA7F0B}" type="slidenum">
              <a:rPr b="0" lang="en-US" sz="1200" spc="-1" strike="noStrike">
                <a:solidFill>
                  <a:srgbClr val="d9d4c7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f2f2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7D3B-8E73-43FF-8F5E-55DF88F06CB1}" type="slidenum">
              <a:rPr b="0" lang="en-US" sz="1200" spc="-1" strike="noStrike">
                <a:solidFill>
                  <a:srgbClr val="2f2f2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5"/>
          <p:cNvSpPr txBox="1"/>
          <p:nvPr/>
        </p:nvSpPr>
        <p:spPr>
          <a:xfrm>
            <a:off x="838080" y="1676520"/>
            <a:ext cx="73915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PIAGET'S THEORY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OF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COGNITIVE  DEVELOPMENT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sp>
        <p:nvSpPr>
          <p:cNvPr id="203" name="WordArt 6"/>
          <p:cNvSpPr txBox="1"/>
          <p:nvPr/>
        </p:nvSpPr>
        <p:spPr>
          <a:xfrm>
            <a:off x="2514600" y="5791320"/>
            <a:ext cx="4343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by Michael Morret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4"/>
          <p:cNvSpPr txBox="1"/>
          <p:nvPr/>
        </p:nvSpPr>
        <p:spPr>
          <a:xfrm>
            <a:off x="762120" y="1066680"/>
            <a:ext cx="7772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Sensorimotor  Substages: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sp>
        <p:nvSpPr>
          <p:cNvPr id="232" name="WordArt 4"/>
          <p:cNvSpPr txBox="1"/>
          <p:nvPr/>
        </p:nvSpPr>
        <p:spPr>
          <a:xfrm>
            <a:off x="914400" y="228600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* Tertiary Circular Reactions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219320" y="3733920"/>
            <a:ext cx="3095640" cy="23241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rcRect l="8881" t="17144" r="0" b="4144"/>
          <a:stretch/>
        </p:blipFill>
        <p:spPr>
          <a:xfrm>
            <a:off x="5181480" y="3352680"/>
            <a:ext cx="2381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4"/>
          <p:cNvSpPr txBox="1"/>
          <p:nvPr/>
        </p:nvSpPr>
        <p:spPr>
          <a:xfrm>
            <a:off x="762120" y="1066680"/>
            <a:ext cx="7772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Sensorimotor  Substages: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sp>
        <p:nvSpPr>
          <p:cNvPr id="236" name="WordArt 4"/>
          <p:cNvSpPr txBox="1"/>
          <p:nvPr/>
        </p:nvSpPr>
        <p:spPr>
          <a:xfrm>
            <a:off x="990720" y="2209680"/>
            <a:ext cx="7086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* Beginning of Thought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33520" y="3352680"/>
            <a:ext cx="3809880" cy="28101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5334120" y="33526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WordArt 4"/>
          <p:cNvSpPr txBox="1"/>
          <p:nvPr/>
        </p:nvSpPr>
        <p:spPr>
          <a:xfrm>
            <a:off x="914400" y="1219320"/>
            <a:ext cx="7162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Sensorimotor Stage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(birth until age 2)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pic>
        <p:nvPicPr>
          <p:cNvPr id="240" name="Picture 5" descr="http://www.offthemarkcartoons.com/cartoons/2004-04-28.gif"/>
          <p:cNvPicPr/>
          <p:nvPr/>
        </p:nvPicPr>
        <p:blipFill>
          <a:blip r:embed="rId2"/>
          <a:srcRect l="0" t="0" r="0" b="14291"/>
          <a:stretch/>
        </p:blipFill>
        <p:spPr>
          <a:xfrm>
            <a:off x="2514600" y="2514600"/>
            <a:ext cx="3200400" cy="3657600"/>
          </a:xfrm>
          <a:prstGeom prst="rect">
            <a:avLst/>
          </a:prstGeom>
          <a:ln w="0">
            <a:noFill/>
          </a:ln>
        </p:spPr>
      </p:pic>
      <p:sp>
        <p:nvSpPr>
          <p:cNvPr id="241" name="Straight Connector 5"/>
          <p:cNvSpPr/>
          <p:nvPr/>
        </p:nvSpPr>
        <p:spPr>
          <a:xfrm>
            <a:off x="2514600" y="6172200"/>
            <a:ext cx="3200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WordArt 4"/>
          <p:cNvSpPr txBox="1"/>
          <p:nvPr/>
        </p:nvSpPr>
        <p:spPr>
          <a:xfrm>
            <a:off x="1066680" y="990720"/>
            <a:ext cx="72392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Pre-Operations Stage 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(2 – 7 yrs)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09480" y="32767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3962520" y="3352680"/>
            <a:ext cx="45720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4"/>
          <p:cNvSpPr txBox="1"/>
          <p:nvPr/>
        </p:nvSpPr>
        <p:spPr>
          <a:xfrm>
            <a:off x="1066680" y="990720"/>
            <a:ext cx="72392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Pre-Operational Stage 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(2 – 7 yrs)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pic>
        <p:nvPicPr>
          <p:cNvPr id="246" name="Picture 6" descr="http://3.bp.blogspot.com/_WsE6M_RjBIY/SPWB-YmCeAI/AAAAAAAAMb8/N7Vd3ofNYGg/s400/baby_cartoon_.jpg"/>
          <p:cNvPicPr/>
          <p:nvPr/>
        </p:nvPicPr>
        <p:blipFill>
          <a:blip r:embed="rId2"/>
          <a:stretch/>
        </p:blipFill>
        <p:spPr>
          <a:xfrm>
            <a:off x="3124080" y="2743200"/>
            <a:ext cx="311472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http://forum.urduworld.com/members/meher19-4248/albums/my-album/13513-cartoonkids-1.gif"/>
          <p:cNvPicPr/>
          <p:nvPr/>
        </p:nvPicPr>
        <p:blipFill>
          <a:blip r:embed="rId2"/>
          <a:stretch/>
        </p:blipFill>
        <p:spPr>
          <a:xfrm>
            <a:off x="1066680" y="2438280"/>
            <a:ext cx="7391520" cy="3838680"/>
          </a:xfrm>
          <a:prstGeom prst="rect">
            <a:avLst/>
          </a:prstGeom>
          <a:ln w="0">
            <a:noFill/>
          </a:ln>
        </p:spPr>
      </p:pic>
      <p:sp>
        <p:nvSpPr>
          <p:cNvPr id="248" name="WordArt 4"/>
          <p:cNvSpPr txBox="1"/>
          <p:nvPr/>
        </p:nvSpPr>
        <p:spPr>
          <a:xfrm>
            <a:off x="1066680" y="990720"/>
            <a:ext cx="72392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Concrete Operational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Stage  (7 – 12 yrs)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4"/>
          <p:cNvSpPr txBox="1"/>
          <p:nvPr/>
        </p:nvSpPr>
        <p:spPr>
          <a:xfrm>
            <a:off x="1066680" y="990720"/>
            <a:ext cx="72392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Concrete Operational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Stage  (7 – 12 yrs)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pic>
        <p:nvPicPr>
          <p:cNvPr id="250" name="Picture 2" descr="http://www.cartoonstock.com/newscartoons/cartoonists/rma/lowres/rman9445l.jpg"/>
          <p:cNvPicPr/>
          <p:nvPr/>
        </p:nvPicPr>
        <p:blipFill>
          <a:blip r:embed="rId2"/>
          <a:srcRect l="0" t="0" r="3997" b="0"/>
          <a:stretch/>
        </p:blipFill>
        <p:spPr>
          <a:xfrm>
            <a:off x="2666880" y="2819520"/>
            <a:ext cx="3657600" cy="34002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3"/>
          <p:cNvSpPr/>
          <p:nvPr/>
        </p:nvSpPr>
        <p:spPr>
          <a:xfrm>
            <a:off x="4419720" y="2743200"/>
            <a:ext cx="190476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4"/>
          <p:cNvSpPr txBox="1"/>
          <p:nvPr/>
        </p:nvSpPr>
        <p:spPr>
          <a:xfrm>
            <a:off x="1066680" y="990720"/>
            <a:ext cx="72392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Formal Operational  Stage 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(12 yrs - adulthood)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pic>
        <p:nvPicPr>
          <p:cNvPr id="253" name="Picture 2" descr="http://www.brookepsychologists.com/yahoo_site_admin/assets/images/Happy_multiethnic_teens.59220236_std.jpg"/>
          <p:cNvPicPr/>
          <p:nvPr/>
        </p:nvPicPr>
        <p:blipFill>
          <a:blip r:embed="rId2"/>
          <a:stretch/>
        </p:blipFill>
        <p:spPr>
          <a:xfrm>
            <a:off x="304920" y="3352680"/>
            <a:ext cx="3200400" cy="31640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http://popsci.typepad.com/photos/uncategorized/2007/10/19/mr_six_old_guy_lg.jpg"/>
          <p:cNvPicPr/>
          <p:nvPr/>
        </p:nvPicPr>
        <p:blipFill>
          <a:blip r:embed="rId3"/>
          <a:srcRect l="19898" t="0" r="15457" b="0"/>
          <a:stretch/>
        </p:blipFill>
        <p:spPr>
          <a:xfrm>
            <a:off x="3886200" y="2886120"/>
            <a:ext cx="1981080" cy="39718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http://gawker.com/assets/resources/2008/02/steve-family.jpg"/>
          <p:cNvPicPr/>
          <p:nvPr/>
        </p:nvPicPr>
        <p:blipFill>
          <a:blip r:embed="rId4"/>
          <a:stretch/>
        </p:blipFill>
        <p:spPr>
          <a:xfrm>
            <a:off x="6019920" y="33526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WordArt 4"/>
          <p:cNvSpPr txBox="1"/>
          <p:nvPr/>
        </p:nvSpPr>
        <p:spPr>
          <a:xfrm>
            <a:off x="1066680" y="990720"/>
            <a:ext cx="72392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Formal Operational  Stage 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(12 yrs - adulthood)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pic>
        <p:nvPicPr>
          <p:cNvPr id="257" name="Picture 2" descr="http://www.sph.umich.edu/csg/abecasis/merlin/wizard2.gif"/>
          <p:cNvPicPr/>
          <p:nvPr/>
        </p:nvPicPr>
        <p:blipFill>
          <a:blip r:embed="rId2"/>
          <a:stretch/>
        </p:blipFill>
        <p:spPr>
          <a:xfrm>
            <a:off x="6172200" y="3429000"/>
            <a:ext cx="1952640" cy="23814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http://www.furiousdebate.com/wp-content/themes/inuit-types/images/DebateCartoonSM.jpg"/>
          <p:cNvPicPr/>
          <p:nvPr/>
        </p:nvPicPr>
        <p:blipFill>
          <a:blip r:embed="rId3"/>
          <a:stretch/>
        </p:blipFill>
        <p:spPr>
          <a:xfrm>
            <a:off x="762120" y="3276720"/>
            <a:ext cx="304776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981080" y="1828800"/>
            <a:ext cx="5105520" cy="47242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685800" y="609480"/>
            <a:ext cx="7620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993366"/>
                  </a:solidFill>
                  <a:miter/>
                </a:ln>
                <a:solidFill>
                  <a:srgbClr val="00ccff"/>
                </a:solidFill>
                <a:latin typeface="Imprint MT Shadow"/>
              </a:rPr>
              <a:t>Any questions!?</a:t>
            </a:r>
            <a:endParaRPr b="0" lang="en-US" sz="1800" spc="1" strike="noStrike">
              <a:ln w="25560">
                <a:solidFill>
                  <a:srgbClr val="993366"/>
                </a:solidFill>
                <a:miter/>
              </a:ln>
              <a:solidFill>
                <a:srgbClr val="00ccff"/>
              </a:solidFill>
              <a:latin typeface="Imprint MT Shadow"/>
              <a:ea typeface="Imprint MT Shad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4"/>
          <p:cNvSpPr txBox="1"/>
          <p:nvPr/>
        </p:nvSpPr>
        <p:spPr>
          <a:xfrm>
            <a:off x="914400" y="1523880"/>
            <a:ext cx="7391520" cy="38102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EQ: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How are Piaget's Stages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of Cognitive Development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displayed in children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gary_larson_gifted_comp1.jpg"/>
          <p:cNvPicPr/>
          <p:nvPr/>
        </p:nvPicPr>
        <p:blipFill>
          <a:blip r:embed="rId2"/>
          <a:stretch/>
        </p:blipFill>
        <p:spPr>
          <a:xfrm>
            <a:off x="4876920" y="1219320"/>
            <a:ext cx="3519360" cy="4876560"/>
          </a:xfrm>
          <a:prstGeom prst="rect">
            <a:avLst/>
          </a:prstGeom>
          <a:ln w="0">
            <a:noFill/>
          </a:ln>
        </p:spPr>
      </p:pic>
      <p:sp>
        <p:nvSpPr>
          <p:cNvPr id="206" name="WordArt 5"/>
          <p:cNvSpPr txBox="1"/>
          <p:nvPr/>
        </p:nvSpPr>
        <p:spPr>
          <a:xfrm>
            <a:off x="838080" y="1676520"/>
            <a:ext cx="312444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Not all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children are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“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gifted”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learners!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4"/>
          <p:cNvSpPr txBox="1"/>
          <p:nvPr/>
        </p:nvSpPr>
        <p:spPr>
          <a:xfrm>
            <a:off x="1219320" y="914400"/>
            <a:ext cx="64767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Piaget's Four Stages of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Cognitive Development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sp>
        <p:nvSpPr>
          <p:cNvPr id="208" name="WordArt 5"/>
          <p:cNvSpPr txBox="1"/>
          <p:nvPr/>
        </p:nvSpPr>
        <p:spPr>
          <a:xfrm>
            <a:off x="762120" y="3276720"/>
            <a:ext cx="64767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Sensorimotor Stage (birth to age 2)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sp>
        <p:nvSpPr>
          <p:cNvPr id="209" name="WordArt 6"/>
          <p:cNvSpPr txBox="1"/>
          <p:nvPr/>
        </p:nvSpPr>
        <p:spPr>
          <a:xfrm>
            <a:off x="1066680" y="4114800"/>
            <a:ext cx="6629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Preoperational Stage (age 2 until age 6 - 7)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sp>
        <p:nvSpPr>
          <p:cNvPr id="210" name="WordArt 7"/>
          <p:cNvSpPr txBox="1"/>
          <p:nvPr/>
        </p:nvSpPr>
        <p:spPr>
          <a:xfrm>
            <a:off x="1295280" y="49528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Concrete Operations Stage (age 7 until age 11 - 12)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sp>
        <p:nvSpPr>
          <p:cNvPr id="211" name="WordArt 8"/>
          <p:cNvSpPr txBox="1"/>
          <p:nvPr/>
        </p:nvSpPr>
        <p:spPr>
          <a:xfrm>
            <a:off x="1676520" y="5791320"/>
            <a:ext cx="69339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Formal Operations Stage (age 12 through adulthood)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4"/>
          <p:cNvSpPr txBox="1"/>
          <p:nvPr/>
        </p:nvSpPr>
        <p:spPr>
          <a:xfrm>
            <a:off x="838080" y="1066680"/>
            <a:ext cx="723924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Sensorimotor Stage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(birth until age 2)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pic>
        <p:nvPicPr>
          <p:cNvPr id="213" name="Picture 8" descr="http://www.encomics.com/wp-content/uploads/HLIC/d0a5d7258bb94ced53fcb74dd73e7071.jpg"/>
          <p:cNvPicPr/>
          <p:nvPr/>
        </p:nvPicPr>
        <p:blipFill>
          <a:blip r:embed="rId2"/>
          <a:stretch/>
        </p:blipFill>
        <p:spPr>
          <a:xfrm>
            <a:off x="1219320" y="3390840"/>
            <a:ext cx="3009960" cy="3467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http://www.imajlar.com/free_clipart/precious_moment_clipart/precious_moment_clipart_baby.gif"/>
          <p:cNvPicPr/>
          <p:nvPr/>
        </p:nvPicPr>
        <p:blipFill>
          <a:blip r:embed="rId3"/>
          <a:stretch/>
        </p:blipFill>
        <p:spPr>
          <a:xfrm>
            <a:off x="5638680" y="3962520"/>
            <a:ext cx="19893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4"/>
          <p:cNvSpPr txBox="1"/>
          <p:nvPr/>
        </p:nvSpPr>
        <p:spPr>
          <a:xfrm>
            <a:off x="762120" y="1066680"/>
            <a:ext cx="7772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Sensorimotor  Substages: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sp>
        <p:nvSpPr>
          <p:cNvPr id="216" name="WordArt 4"/>
          <p:cNvSpPr txBox="1"/>
          <p:nvPr/>
        </p:nvSpPr>
        <p:spPr>
          <a:xfrm>
            <a:off x="1143000" y="2362320"/>
            <a:ext cx="5486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* Simple Reflexes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6840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rcRect l="16845" t="31567" r="0" b="0"/>
          <a:stretch/>
        </p:blipFill>
        <p:spPr>
          <a:xfrm>
            <a:off x="5410080" y="3581280"/>
            <a:ext cx="2594160" cy="2847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914400" y="3581280"/>
            <a:ext cx="35053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4"/>
          <p:cNvSpPr txBox="1"/>
          <p:nvPr/>
        </p:nvSpPr>
        <p:spPr>
          <a:xfrm>
            <a:off x="762120" y="1066680"/>
            <a:ext cx="7772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Sensorimotor  Substages: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219320" y="2133720"/>
            <a:ext cx="6019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* Primary Circular Rea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562720" y="35812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762120" y="3581280"/>
            <a:ext cx="34671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4"/>
          <p:cNvSpPr txBox="1"/>
          <p:nvPr/>
        </p:nvSpPr>
        <p:spPr>
          <a:xfrm>
            <a:off x="762120" y="1066680"/>
            <a:ext cx="7772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Sensorimotor  Substages: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sp>
        <p:nvSpPr>
          <p:cNvPr id="225" name="WordArt 4"/>
          <p:cNvSpPr txBox="1"/>
          <p:nvPr/>
        </p:nvSpPr>
        <p:spPr>
          <a:xfrm>
            <a:off x="533520" y="2895480"/>
            <a:ext cx="35812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* Secondary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Circular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Reactions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267080" y="2514600"/>
            <a:ext cx="396252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4"/>
          <p:cNvSpPr txBox="1"/>
          <p:nvPr/>
        </p:nvSpPr>
        <p:spPr>
          <a:xfrm>
            <a:off x="762120" y="1066680"/>
            <a:ext cx="7772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Sensorimotor  Substages: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sp>
        <p:nvSpPr>
          <p:cNvPr id="228" name="WordArt 4"/>
          <p:cNvSpPr txBox="1"/>
          <p:nvPr/>
        </p:nvSpPr>
        <p:spPr>
          <a:xfrm>
            <a:off x="1143000" y="2209680"/>
            <a:ext cx="6477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* Coordination of Reactions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5334120" y="3124080"/>
            <a:ext cx="2184120" cy="3276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1295280" y="3352680"/>
            <a:ext cx="358164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20:56:20Z</dcterms:created>
  <dc:creator>Tanya Morret</dc:creator>
  <dc:description/>
  <dc:language>en-US</dc:language>
  <cp:lastModifiedBy>mmorret</cp:lastModifiedBy>
  <dcterms:modified xsi:type="dcterms:W3CDTF">2010-11-30T21:45:37Z</dcterms:modified>
  <cp:revision>61</cp:revision>
  <dc:subject/>
  <dc:title>Slide 1</dc:title>
</cp:coreProperties>
</file>